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5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5.jpeg" ContentType="image/jpeg"/>
  <Override PartName="/ppt/media/image50.png" ContentType="image/png"/>
  <Override PartName="/ppt/media/image42.png" ContentType="image/png"/>
  <Override PartName="/ppt/media/image28.png" ContentType="image/png"/>
  <Override PartName="/ppt/media/image38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41.png" ContentType="image/png"/>
  <Override PartName="/ppt/media/image48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1"/>
          <p:cNvSpPr/>
          <p:nvPr/>
        </p:nvSpPr>
        <p:spPr>
          <a:xfrm>
            <a:off x="0" y="0"/>
            <a:ext cx="7102440" cy="10234440"/>
          </a:xfrm>
          <a:custGeom>
            <a:avLst/>
            <a:gdLst>
              <a:gd name="textAreaLeft" fmla="*/ 360 w 7102440"/>
              <a:gd name="textAreaRight" fmla="*/ 7102080 w 710244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25">
                <a:moveTo>
                  <a:pt x="4" y="0"/>
                </a:moveTo>
                <a:arcTo wR="4" hR="4" stAng="16200000" swAng="-5400000"/>
                <a:lnTo>
                  <a:pt x="0" y="31121"/>
                </a:lnTo>
                <a:arcTo wR="4" hR="4" stAng="10800000" swAng="-5400000"/>
                <a:lnTo>
                  <a:pt x="21596" y="3112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dt" idx="25"/>
          </p:nvPr>
        </p:nvSpPr>
        <p:spPr>
          <a:xfrm>
            <a:off x="402444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5040" y="768240"/>
            <a:ext cx="51116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152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26"/>
          </p:nvPr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AC65A-7597-4EB2-B32C-4FF26E410709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8D44C-B3A8-4C8A-99E0-F4E2570E50F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esentation slide for courses, classes, lectures et 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B71204-99DE-4F73-AB03-4856C91698E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95F1A-0431-409E-A281-982D5539D47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2C0AAD-58C3-4196-9ACB-12723D7F8FF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6FDCE-937D-43F1-85A7-5A5B2E98D42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F7C900-9CA2-43D1-B4F4-B6F4BDD144F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65E9E-3B77-41D6-90CA-AAA3A774549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415E1D-9D6C-44FE-89BE-FC48562DD84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A3F12-B7B3-43F9-8498-15080456CF2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1F98FD-9F0A-40C8-AAF6-64388BB6B8C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CA7AD-845C-4F4B-816A-75160568D62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Beginning course details and/or books/materials needed for a class/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9F9E9E-21CE-407C-8BB1-28E3857E845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3A4B9-2D1A-4F02-9BFE-5DD92D9A97F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9ADF8-CEDE-4E58-9F45-E754FB95739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4024440" y="9721800"/>
            <a:ext cx="30765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29780-CB9C-4267-B07F-F73504B8A90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27C7-77D9-45F0-A25E-441A624D1B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85EA6-69E8-4825-8F9D-4466422B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66698-FB5C-45A2-95E6-F43063DC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3DAE0-85F5-4C25-ADDB-7A7723A1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81F10-9F71-4964-B5DE-D3849EF7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6A815-3F5D-4647-9E3C-D8058F3F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D618E-A311-4242-BD27-C70A0B41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6C88D-847B-4D1A-8EC8-7591DD05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BE85B-0F28-4DF9-9863-6C1902B5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67CA5-48BB-4FD7-B87E-A6D4E51B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4C345-54D8-4D60-9B41-96830AA725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1DA8F2-B127-4BC6-82C1-1A4B7F3166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15395-21C4-47AE-83B0-1A863306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D0BBD1-FFBB-4027-8A46-7A7B08BE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BEFC11-453B-41F4-9331-D08F6BA3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C4F5DE-75F0-45C1-99BE-AA7F6755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FCF1BF-442B-4605-B0F9-2C6C7A6B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C1681D-196B-4946-9D12-53720B4B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1DD091-DBFF-49F2-97F6-0BF7A736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AFA6B5-74CA-4FC3-B658-05D28EA7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5571E3-E4C0-44E7-9E23-8B7BFF81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3BC893-E6CD-4F0D-A5B1-662579E0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04AA4D-6E37-4BDF-BA5A-9F20AACB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50DA0-A3FD-499F-A2E1-275F838D8A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72A729-7F78-4DF8-94E6-B335CA72BA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F758E1-AE61-4AC4-8FDC-6F9C68AD8B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3F9EBA-B142-49CA-A6E8-DBEB2629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E12C51-74BD-4685-9C1B-786BFE49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1E1B89-420A-4B2E-86B4-73533A61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3D16FA-9050-4812-9464-4A793A37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AED063-657C-4A00-9310-929DE265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EC1AB6-2F16-479E-B3C7-E6FE63FE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818E67-4FB2-4784-BE61-D3FA1870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2400C3-F083-4E48-AB09-E39636B3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2F213-967C-499B-A81E-EBBBE4F202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B71394-DDAD-4707-897C-69AFB997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9B471F-C668-4689-B21A-22ADF99B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1A5453-48F7-4B7D-98F9-19F8F8F1B2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BEDBE-730A-4597-BCAD-8780A9896B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2B7DE-7874-4BA2-8DE0-AC6B7E88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4E0F2-78C5-47BD-A7C3-7CE2AB7E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EDAFE-5D75-406A-9FC2-DD4B9499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3C1EC-A1A8-4F36-9011-CF70ACC1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95C82-DC2C-49EC-BEA2-9937FD33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7CA32-F370-4AEA-9A70-ED91637E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ACCEF-B678-4DDA-9E7D-FCFAA370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4122C-66C0-4535-BFBA-2D3355A2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CE8A7-3B7A-43A4-9391-AEBA7FD9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65932-35F1-422B-9690-01D8391A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2A0D9-BC33-4906-B275-CCC292A5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13964-6F0F-4E3B-AB65-B4B2F3A658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751C6-7536-45FA-9F15-24137971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37BCC-209E-48AC-83F1-0C0FD314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2CB5A-9BE0-4A94-8703-C9DAEFA1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FEC7A-BDF2-4FBA-84AA-971EE5CF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F67F1-5E6C-4AB1-B99A-80282FFF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CA18D-4449-47AF-A222-228D063F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FC7FA-BEEB-439C-94EA-DE76715E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EFAD3-7712-4240-8A98-8627EE78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0AE91-23DB-4E08-8C45-56D7CBE7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4F78F-39CB-438F-BABF-848FFA07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5676B-33D7-4B5F-A01A-21D628E4D0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5789-255C-4EED-BB1A-B44EEB4040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907E-B6D4-40BD-8F9E-E936D300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8982-FF2D-4BE5-A00C-24D991FF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3A00-1F46-4D09-9D54-850A6547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B068-A5A0-4DB2-AA35-2D0204C1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35BA3-2EB5-40DD-B38F-45FBE053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CADD-CF34-479E-A4C2-CB759CD8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69EC-9525-40B8-8ECF-C974C911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961B-DACD-4B5B-A901-7F8244BC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D48A-69D3-4873-BF46-ADA6B794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686D-3605-4B5B-8D20-72CBA43D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9EF8-0E64-4717-8E28-960D7B4F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1308-F7B9-4D84-B965-DE6A11C69C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0BFB3-C60F-43F2-8069-522467EEB8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5BF06-8E6A-46CA-B607-A973DC7C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2F876-CD16-40A4-9F1C-EE5A0450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46CDE-E075-4CEB-A004-202E17C9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D203F-7C71-4D99-A7D2-0B2C413E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0B4EA-B288-4668-B916-97EB5255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119D57-4CD3-40F1-BBC4-FED5E89C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BEA25-B3CA-441F-B3A4-9662B2CD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CAA4E1-1424-4C0F-BB4D-EE61DB5E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CA25E4-F73D-46C7-8D4E-C8FF7C26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F65B1-C65F-4A04-96F9-95176382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DA883-8A13-40D4-ADC8-57DE3EE7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7C540-7634-4A33-A57E-AB46C8B0B1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94B676-0DF5-4CCB-B864-5E00720165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8492C-F7FF-463A-812D-104A4FFB1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DDB2B9-D3FC-4B41-9177-81C1E8F7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5BD660-A91D-4D02-8BA0-7AD921F5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B7C25A-FB8A-4D40-9675-F6944D54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C83207-9A65-4C08-AAEF-918E9BC0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9940EF-7DAB-4543-AAB2-0DF84E241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DB3F8B-841A-4AA3-B615-06BD23CA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46ABC1-016B-4FC5-8636-6955AE8F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060F61-EBAF-40CB-B4A4-4F4EDC86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C034FF-22FA-41F0-B460-36D094C8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2ABE1C-38AB-4084-BA1D-C6C9A992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8C51-CBAB-400E-B187-7949ACBF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E34088-1176-4FC9-AC90-0C599C5FE6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9844D-A1BF-4011-92D2-C78C92B22A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C2373-BDA7-4B6E-AC8B-78DA02FC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CBB5D-1BFB-47F2-BDCB-4AD970B2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FFF94-3FF6-4627-95EB-9CFC9147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00137-4C4A-4356-96D6-D974ABBE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DED02-C034-410C-9AB1-CFB4B9EF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0E014-0621-45F3-99AC-FE80F464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5D98E-D392-402B-B08C-843E9E7A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2BC1E-CF75-45E0-B300-A9489F42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C0D79-9C45-4455-85C8-9A37F0D2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BB805-5698-4B0E-B4E2-942EFB6A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8FA2-35D4-44AE-8B80-96FAFD5E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2A881-0E0E-403B-95E1-510956B72D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767DF1-9CCB-45C8-96E1-ABA475B165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9235B-9670-45DA-9F9E-179CF1C8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CE6E1-B246-4630-B011-9B6AB38D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689C6C-EF25-473D-9234-2435EEC7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4CDCA-9888-4969-B686-74C1C695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5E1576-B2C3-45F5-8F74-E2A93C7B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45DCFC-D5DF-4B66-890A-73DEF067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802DA-001C-46D3-B11E-056BBB33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924482-04D5-4F77-8F1C-6225CB44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1AABB-E781-4D3E-828F-E93A0DF2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96C683-EB59-4056-B407-715FECD8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D3103C-03DA-4286-846F-9C8A309C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1D9E93-8620-4B0F-8DAA-3890C1AB4C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202965-FB71-4B17-BDC5-57C3CB289A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ED162B-7C2A-4299-853B-07DD34FE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1A5343-2493-44E3-B5EC-832EE84A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74AC53-D2F3-4B44-A041-0597A1CF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691ABB-0C74-4844-9735-9BFC92C1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04D31-A009-433A-8243-CCDDAD03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4996FE-DE0D-475F-857F-E5C1049B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99898A-6CEC-4EFE-8D5E-B69B6B62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016B2D-1B55-4759-AAB4-69A22254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69EAEE-E211-43EB-82FF-CCB1844F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CE90D3-4888-4745-B128-85FAA6E7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A74980-95CA-47FC-9CAA-827CFADF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441AC3-3B0F-449A-BEBE-DCA3B98C99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8E7BC-E751-4447-AE68-A4CB47695A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A2745-C73C-4366-AE20-F0275D0D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921D0-8F3F-4867-BAD0-BCAC4F37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01/30/13 09: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6642B-1F7E-41CE-910F-4B7DF88946A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9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0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01226-EF6E-4296-9EAE-F1F01B6A71CE}" type="slidenum">
              <a:rPr b="1" lang="en-US" sz="28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sldNum" idx="22"/>
          </p:nvPr>
        </p:nvSpPr>
        <p:spPr>
          <a:xfrm>
            <a:off x="-360" y="1238040"/>
            <a:ext cx="531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B64C87-1FDD-46FE-9706-B53D9AB1F244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sldNum" idx="24"/>
          </p:nvPr>
        </p:nvSpPr>
        <p:spPr>
          <a:xfrm>
            <a:off x="6410160" y="-360"/>
            <a:ext cx="53208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2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D47A2-091A-4192-A6B2-2E61E95C71AE}" type="slidenum">
              <a:rPr b="1" lang="en-US" sz="12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  <a:ea typeface="Arial"/>
              </a:rPr>
              <a:t>01/30/13 09: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00673-F7FE-4011-9C8C-39D42E17F156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AA1136-5BA6-417D-92CE-507EC2073AEA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1A237-05DD-443D-AE93-043261348B9C}" type="slidenum">
              <a:rPr b="1" lang="en-US" sz="2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6B4B4-B09C-4B86-AD11-63839B3EF26D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3B39C-B460-42BB-991B-0CBD0BCC0E64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620A9-55DE-4332-8E48-5C7CCDCE71D8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E6005-3786-4B43-AA09-08D53D648499}" type="slidenum">
              <a:rPr b="1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612720" y="1755720"/>
            <a:ext cx="1614600" cy="168912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323232"/>
                </a:solidFill>
                <a:latin typeface="Tw Cen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Tw Cen MT"/>
                <a:ea typeface="Arial"/>
              </a:rPr>
              <a:t>01/30/13 09: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-360" y="1220400"/>
            <a:ext cx="53172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9A2B7-7BA3-4847-BE9B-C4D01A38136C}" type="slidenum">
              <a:rPr b="1" lang="en-US" sz="1400" spc="-1" strike="noStrike">
                <a:solidFill>
                  <a:srgbClr val="ffffff"/>
                </a:solidFill>
                <a:latin typeface="Tw Cen MT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image" Target="../media/image34.jpeg"/><Relationship Id="rId18" Type="http://schemas.openxmlformats.org/officeDocument/2006/relationships/image" Target="../media/image35.png"/><Relationship Id="rId19" Type="http://schemas.openxmlformats.org/officeDocument/2006/relationships/image" Target="../media/image36.jpeg"/><Relationship Id="rId20" Type="http://schemas.openxmlformats.org/officeDocument/2006/relationships/image" Target="../media/image37.jpeg"/><Relationship Id="rId21" Type="http://schemas.openxmlformats.org/officeDocument/2006/relationships/image" Target="../media/image38.jpe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png"/><Relationship Id="rId26" Type="http://schemas.openxmlformats.org/officeDocument/2006/relationships/image" Target="../media/image43.png"/><Relationship Id="rId27" Type="http://schemas.openxmlformats.org/officeDocument/2006/relationships/image" Target="../media/image44.jpeg"/><Relationship Id="rId28" Type="http://schemas.openxmlformats.org/officeDocument/2006/relationships/image" Target="../media/image45.png"/><Relationship Id="rId29" Type="http://schemas.openxmlformats.org/officeDocument/2006/relationships/image" Target="../media/image46.png"/><Relationship Id="rId30" Type="http://schemas.openxmlformats.org/officeDocument/2006/relationships/image" Target="../media/image47.jpeg"/><Relationship Id="rId31" Type="http://schemas.openxmlformats.org/officeDocument/2006/relationships/image" Target="../media/image48.jpeg"/><Relationship Id="rId32" Type="http://schemas.openxmlformats.org/officeDocument/2006/relationships/image" Target="../media/image49.png"/><Relationship Id="rId33" Type="http://schemas.openxmlformats.org/officeDocument/2006/relationships/image" Target="../media/image50.png"/><Relationship Id="rId34" Type="http://schemas.openxmlformats.org/officeDocument/2006/relationships/slideLayout" Target="../slideLayouts/slideLayout85.xml"/><Relationship Id="rId3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2193840" y="298440"/>
            <a:ext cx="6477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Asociaţia  </a:t>
            </a:r>
            <a:r>
              <a:rPr b="1" lang="en-US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Shakespeare School</a:t>
            </a:r>
            <a:r>
              <a:rPr b="1" lang="ro-RO" sz="3200" spc="-1" strike="noStrike">
                <a:solidFill>
                  <a:srgbClr val="70215f"/>
                </a:solidFill>
                <a:latin typeface="Open Sans"/>
                <a:ea typeface="Open Sans"/>
              </a:rPr>
              <a:t> pentru Educaţ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000" spc="-1" strike="noStrike">
                <a:solidFill>
                  <a:srgbClr val="5d6967"/>
                </a:solidFill>
                <a:latin typeface="Harlow Solid Italic"/>
              </a:rPr>
              <a:t>Essay Competit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228600" y="39528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18960"/>
                <a:tab algn="l" pos="1233360"/>
                <a:tab algn="l" pos="2147760"/>
                <a:tab algn="l" pos="3062160"/>
                <a:tab algn="l" pos="3976560"/>
                <a:tab algn="l" pos="4890960"/>
                <a:tab algn="l" pos="5805360"/>
                <a:tab algn="l" pos="6719760"/>
                <a:tab algn="l" pos="7634160"/>
                <a:tab algn="l" pos="8548560"/>
                <a:tab algn="l" pos="9462960"/>
                <a:tab algn="l" pos="1037736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Concurs national de creatie in limba englez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380880" y="6248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201</a:t>
            </a:r>
            <a:r>
              <a:rPr b="0" lang="ro-RO" sz="2000" spc="-1" strike="noStrike">
                <a:solidFill>
                  <a:srgbClr val="ffffff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3527280" y="3429000"/>
            <a:ext cx="302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  </a:t>
            </a:r>
            <a:r>
              <a:rPr b="1" i="1" lang="ro-RO" sz="2200" spc="-1" strike="noStrike">
                <a:solidFill>
                  <a:srgbClr val="5d6967"/>
                </a:solidFill>
                <a:latin typeface="Open Sans"/>
              </a:rPr>
              <a:t>Februarie - Mai 201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52280" y="4495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1300" spc="-1" strike="noStrike">
                <a:solidFill>
                  <a:srgbClr val="5d6967"/>
                </a:solidFill>
                <a:latin typeface="Open Sans"/>
              </a:rPr>
              <a:t>Proiect inclus in Calendarul Activitatilor Educative al Inspectoratului Scolar al Municipiului Bucuresti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6019920" y="6380280"/>
            <a:ext cx="3047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ro-RO" sz="2500" spc="-1" strike="noStrike">
                <a:solidFill>
                  <a:srgbClr val="5d6967"/>
                </a:solidFill>
                <a:latin typeface="Open Sans"/>
              </a:rPr>
              <a:t>Write, race, win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11" descr="Logo Asociatia SS pentru Educatie_220.jpg"/>
          <p:cNvPicPr/>
          <p:nvPr/>
        </p:nvPicPr>
        <p:blipFill>
          <a:blip r:embed="rId2"/>
          <a:stretch/>
        </p:blipFill>
        <p:spPr>
          <a:xfrm>
            <a:off x="664380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285840" y="506736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1143000"/>
            <a:ext cx="4343400" cy="34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rganizat pe 2 categorii de varsta: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1-14 ani 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s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15-19 ani</a:t>
            </a:r>
            <a:r>
              <a:rPr b="0" lang="ro-RO" sz="1800" spc="-1" strike="noStrike">
                <a:solidFill>
                  <a:srgbClr val="000000"/>
                </a:solidFill>
                <a:latin typeface="Open Sans"/>
                <a:ea typeface="Open Sans"/>
              </a:rPr>
              <a:t>, </a:t>
            </a: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u teme adecvate fiecarei grupe de varsta in par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Obiective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creativitatii ca parte a procesului de life-long lear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romovarea gandirii creative si a sensibilitatii emotio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rgirea accesului tinerilor la exprimare creati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952880" y="1752480"/>
            <a:ext cx="388620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just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Vrem ca acest concurs să fie organizat anual, devenind astfel o </a:t>
            </a:r>
            <a:r>
              <a:rPr b="0" i="1" lang="ro-RO" sz="1600" spc="-1" strike="noStrike" u="sng">
                <a:solidFill>
                  <a:srgbClr val="5d6967"/>
                </a:solidFill>
                <a:uFillTx/>
                <a:latin typeface="Open Sans"/>
                <a:ea typeface="Open Sans"/>
              </a:rPr>
              <a:t>tradiţie</a:t>
            </a:r>
            <a:r>
              <a:rPr b="0" i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. An de an, vom oferi tinerilor creativi oportunitatea de a-si folosi talentul si imaginatia, punandu-si in valoare potentialul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380880" y="212760"/>
            <a:ext cx="4496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600" spc="-1" strike="noStrike">
                <a:solidFill>
                  <a:srgbClr val="70215f"/>
                </a:solidFill>
                <a:latin typeface="Open Sans"/>
                <a:ea typeface="Open Sans"/>
              </a:rPr>
              <a:t>Despre concu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5410080" y="35053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5"/>
          <p:cNvSpPr/>
          <p:nvPr/>
        </p:nvSpPr>
        <p:spPr>
          <a:xfrm>
            <a:off x="533520" y="4343400"/>
            <a:ext cx="4647960" cy="778680"/>
          </a:xfrm>
          <a:prstGeom prst="rect">
            <a:avLst/>
          </a:prstGeom>
          <a:noFill/>
          <a:ln cap="sq" w="936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ro-RO" sz="1500" spc="-1" strike="noStrike">
                <a:solidFill>
                  <a:srgbClr val="5d6967"/>
                </a:solidFill>
                <a:latin typeface="Open Sans"/>
              </a:rPr>
              <a:t>Incercam sa iesim din sabloane, din testele grila pentru a-i incuraja pe copii si tineri sa gandeasca, sa inoveze, sa  creeze ... in limba lui Shakespeare!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550440" y="641196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</a:rPr>
              <a:t>Participarea este gratuita si deschisa tuturor tinerilor din Romania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9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508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500040" y="5286240"/>
            <a:ext cx="3432240" cy="1071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1"/>
          <p:cNvSpPr/>
          <p:nvPr/>
        </p:nvSpPr>
        <p:spPr>
          <a:xfrm>
            <a:off x="380880" y="372960"/>
            <a:ext cx="81536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 in Cifre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2009 -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655560" y="1317600"/>
            <a:ext cx="739152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2 tiner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 cu scoli de vara la Cambridge, Oxf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144 tineri finalisti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remiati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ursuri gratuite la Shakespeare Schoo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Taxe de examen Cambridge oferite de British Counci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400" spc="-1" strike="noStrike">
                <a:solidFill>
                  <a:srgbClr val="5d6967"/>
                </a:solidFill>
                <a:latin typeface="Open Sans"/>
                <a:ea typeface="Open Sans"/>
              </a:rPr>
              <a:t>Carti, dictionare et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13.500 eseuri inscrise </a:t>
            </a: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in cele 4 edit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Au participat tineri din </a:t>
            </a: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 din Romania: </a:t>
            </a:r>
            <a:r>
              <a:rPr b="0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0" lang="ro-RO" sz="1400" spc="-1" strike="noStrike">
                <a:solidFill>
                  <a:srgbClr val="70215f"/>
                </a:solidFill>
                <a:latin typeface="Open Sans"/>
                <a:ea typeface="Open Sans"/>
              </a:rPr>
              <a:t>Bucuresti, Cluj-Napoca, Craiova, Focsani, Galati ,Hateg, Iasi, Oradea, Pascani, Petrosani, Piatra Neamt, Pitesti, Ploiesti, Ramnicu Valcea, Roman, Rosiori de Vede, Sibiu, Sighetul Marmatiei, Suceava, Targoviste,Tecuci,Urzicen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8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5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795240" y="4929120"/>
            <a:ext cx="5276880" cy="1647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380880" y="220680"/>
            <a:ext cx="41911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Povesti de Succes</a:t>
            </a:r>
            <a:br>
              <a:rPr sz="3000"/>
            </a:br>
            <a:r>
              <a:rPr b="1" lang="ro-RO" sz="3000" spc="-1" strike="noStrike">
                <a:solidFill>
                  <a:srgbClr val="70215f"/>
                </a:solidFill>
                <a:latin typeface="Open Sans"/>
                <a:ea typeface="Open Sans"/>
              </a:rPr>
              <a:t>Essay Compet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80880" y="2590920"/>
            <a:ext cx="5715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“</a:t>
            </a:r>
            <a:r>
              <a:rPr b="1" i="1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Pot zice cu mana pe inima ca ESSAY COMPETITION mi-a schimbat atat viitorul cat si perspectiva mea asupra lumii.”  </a:t>
            </a:r>
            <a:r>
              <a:rPr b="0" lang="ro-RO" sz="1800" spc="-1" strike="noStrike">
                <a:solidFill>
                  <a:srgbClr val="5d6967"/>
                </a:solidFill>
                <a:latin typeface="Open Sans"/>
                <a:ea typeface="Open Sans"/>
              </a:rPr>
              <a:t>Mircea Nei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Mircea Neicu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este un tanar din Orsova care nu depasise niciodata granitele Romaniei  si caruia premiul de la Essay Competition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deschis porti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 si i-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schimbat drumul in viata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clasandu-se pe locul I a castigat o tabara de engle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Universitatea Cambrid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articiparea la tabara de vara i-a sporit increderea in fortele propr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Wingdings" charset="2"/>
              <a:buChar char="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a aplicat apoi la mai multe facultati din Marea Britanie si acum studiaza la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Lancaster Univer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27432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643800" y="142920"/>
            <a:ext cx="2068560" cy="10713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1214280"/>
            <a:ext cx="4214520" cy="131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304920" y="76320"/>
            <a:ext cx="8153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400" spc="-1" strike="noStrike">
                <a:solidFill>
                  <a:srgbClr val="70215f"/>
                </a:solidFill>
                <a:latin typeface="Open Sans"/>
                <a:ea typeface="Open Sans"/>
              </a:rPr>
              <a:t>Prima editie (200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304920" y="2286000"/>
            <a:ext cx="4267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 </a:t>
            </a: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mai 2009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, sub egida Anului European al Creativitatii si Inovat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este 200 eseuri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Capitala si din toata t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r>
              <a:rPr b="0" lang="ro-RO" sz="2400" spc="-1" strike="noStrike">
                <a:solidFill>
                  <a:srgbClr val="595959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4800600" y="2209680"/>
            <a:ext cx="41911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e la Suceava la Corabia, din Maramures pana la Faurei, Buzau, Brasov, Cluj, Arad, Constanta, Craiova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4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: </a:t>
            </a:r>
            <a:r>
              <a:rPr b="0" lang="ro-RO" sz="2400" spc="-1" strike="noStrike">
                <a:solidFill>
                  <a:srgbClr val="5d6967"/>
                </a:solidFill>
                <a:latin typeface="Open Sans"/>
                <a:ea typeface="Open Sans"/>
              </a:rPr>
              <a:t>British Council, Radio Romania Actualitati, Radio Itsy Bitsy, TVR Cultural, Studentie.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Banner Orizontal Essay_Logo Asociatie_lowQ.png"/>
          <p:cNvPicPr/>
          <p:nvPr/>
        </p:nvPicPr>
        <p:blipFill>
          <a:blip r:embed="rId3"/>
          <a:stretch/>
        </p:blipFill>
        <p:spPr>
          <a:xfrm>
            <a:off x="500040" y="857160"/>
            <a:ext cx="4357800" cy="13604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1"/>
          <p:cNvSpPr/>
          <p:nvPr/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doua editie (2010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304920" y="2209680"/>
            <a:ext cx="4267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martie 201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3100 de eseuri </a:t>
            </a:r>
            <a:r>
              <a:rPr b="1" lang="ro-RO" sz="21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1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Scoli de vara de limba engleza in UK – Cambridge si Oxford (in valoare de peste 1500 euro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5d6967"/>
              </a:buClr>
              <a:buFont typeface="Open Sans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o-RO" sz="16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4648320" y="2209680"/>
            <a:ext cx="4267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22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Sprijin: </a:t>
            </a:r>
            <a:r>
              <a:rPr b="0" lang="ro-RO" sz="2200" spc="-1" strike="noStrike">
                <a:solidFill>
                  <a:srgbClr val="323232"/>
                </a:solidFill>
                <a:latin typeface="Open Sans"/>
                <a:ea typeface="Open Sans"/>
              </a:rPr>
              <a:t>British Council, Inspectoratele scolare, asociatiile de profeso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media</a:t>
            </a:r>
            <a:r>
              <a:rPr b="0" lang="ro-RO" sz="2200" spc="-1" strike="noStrike">
                <a:solidFill>
                  <a:srgbClr val="70215f"/>
                </a:solidFill>
                <a:latin typeface="Open Sans"/>
                <a:ea typeface="Open Sans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018040" y="6121440"/>
            <a:ext cx="1306440" cy="4316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6496200" y="6076800"/>
            <a:ext cx="1504800" cy="476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4854600" y="4896000"/>
            <a:ext cx="1174680" cy="514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7" descr=""/>
          <p:cNvPicPr/>
          <p:nvPr/>
        </p:nvPicPr>
        <p:blipFill>
          <a:blip r:embed="rId5"/>
          <a:stretch/>
        </p:blipFill>
        <p:spPr>
          <a:xfrm>
            <a:off x="6095880" y="5029200"/>
            <a:ext cx="9907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6"/>
          <a:stretch/>
        </p:blipFill>
        <p:spPr>
          <a:xfrm>
            <a:off x="7162920" y="4933800"/>
            <a:ext cx="1730160" cy="4384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"/>
          <p:cNvPicPr/>
          <p:nvPr/>
        </p:nvPicPr>
        <p:blipFill>
          <a:blip r:embed="rId7"/>
          <a:stretch/>
        </p:blipFill>
        <p:spPr>
          <a:xfrm>
            <a:off x="5029200" y="5495760"/>
            <a:ext cx="1247760" cy="524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0" descr=""/>
          <p:cNvPicPr/>
          <p:nvPr/>
        </p:nvPicPr>
        <p:blipFill>
          <a:blip r:embed="rId8"/>
          <a:stretch/>
        </p:blipFill>
        <p:spPr>
          <a:xfrm>
            <a:off x="6400800" y="5562720"/>
            <a:ext cx="12193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1" descr=""/>
          <p:cNvPicPr/>
          <p:nvPr/>
        </p:nvPicPr>
        <p:blipFill>
          <a:blip r:embed="rId9"/>
          <a:stretch/>
        </p:blipFill>
        <p:spPr>
          <a:xfrm>
            <a:off x="7696080" y="5572080"/>
            <a:ext cx="1054080" cy="3715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4" descr="Logo Asociatia SS pentru Educatie_220.jpg"/>
          <p:cNvPicPr/>
          <p:nvPr/>
        </p:nvPicPr>
        <p:blipFill>
          <a:blip r:embed="rId10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4" descr="Banner Orizontal Essay_Logo Asociatie_lowQ.png"/>
          <p:cNvPicPr/>
          <p:nvPr/>
        </p:nvPicPr>
        <p:blipFill>
          <a:blip r:embed="rId11"/>
          <a:stretch/>
        </p:blipFill>
        <p:spPr>
          <a:xfrm>
            <a:off x="285840" y="785880"/>
            <a:ext cx="4214880" cy="1315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treia editie (201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152280" y="22860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5111 de eseuri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in limba engleza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primite de la tineri din intreaga tar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4 scoli de vara de limba engleza in UK: Cambridge si Oxford (in valoare de peste 1500 euro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buClr>
                <a:srgbClr val="5d6967"/>
              </a:buClr>
              <a:buFont typeface="Open Sans"/>
              <a:buChar char="-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606060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</a:t>
            </a:r>
            <a:r>
              <a:rPr b="1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nationala </a:t>
            </a:r>
            <a:r>
              <a:rPr b="0" lang="ro-RO" sz="1700" spc="-1" strike="noStrike">
                <a:solidFill>
                  <a:srgbClr val="5d6967"/>
                </a:solidFill>
                <a:latin typeface="Open Sans"/>
                <a:ea typeface="Open Sans"/>
              </a:rPr>
              <a:t>(participanti din </a:t>
            </a:r>
            <a:r>
              <a:rPr b="1" lang="ro-RO" sz="1700" spc="-1" strike="noStrike">
                <a:solidFill>
                  <a:srgbClr val="70215f"/>
                </a:solidFill>
                <a:latin typeface="Open Sans"/>
                <a:ea typeface="Open Sans"/>
              </a:rPr>
              <a:t>peste 350 de localitati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tretch/>
        </p:blipFill>
        <p:spPr>
          <a:xfrm>
            <a:off x="3960720" y="1981080"/>
            <a:ext cx="4954680" cy="487692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428760" y="777960"/>
            <a:ext cx="4143240" cy="1293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304920" y="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A patra editie (201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152280" y="2209680"/>
            <a:ext cx="381024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Lansare: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februarie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 u="sng">
                <a:solidFill>
                  <a:srgbClr val="70215f"/>
                </a:solidFill>
                <a:uFillTx/>
                <a:latin typeface="Open Sans"/>
                <a:ea typeface="Open Sans"/>
              </a:rPr>
              <a:t>Peste 4100 de eseuri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in limba engleza primite de la tineri din intreaga t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Wingdings" charset="2"/>
              <a:buChar char="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Premii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scoli de vara de limba engleza in UK: </a:t>
            </a:r>
            <a:r>
              <a:rPr b="1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ambridge, Oxford, Clifton College, Harrow House </a:t>
            </a: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(in valoare de peste 1500 lire fiecare)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Taxe pentru examene Cambridge oferite de British Counc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319320">
              <a:lnSpc>
                <a:spcPct val="100000"/>
              </a:lnSpc>
              <a:spcBef>
                <a:spcPts val="550"/>
              </a:spcBef>
              <a:buClr>
                <a:srgbClr val="70215f"/>
              </a:buClr>
              <a:buFont typeface="Arial"/>
              <a:buChar char="•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0" lang="ro-RO" sz="1500" spc="-1" strike="noStrike">
                <a:solidFill>
                  <a:srgbClr val="323232"/>
                </a:solidFill>
                <a:latin typeface="Open Sans"/>
                <a:ea typeface="Open Sans"/>
              </a:rPr>
              <a:t>cursuri de vara de limba engleza la Shakespeare School, carti, dictionar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70215f"/>
              </a:buClr>
              <a:buFont typeface="Courier New"/>
              <a:buChar char="o"/>
              <a:tabLst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461520"/>
                <a:tab algn="l" pos="10375920"/>
                <a:tab algn="l" pos="10515600"/>
              </a:tabLst>
            </a:pPr>
            <a:r>
              <a:rPr b="1" lang="ro-RO" sz="1600" spc="-1" strike="noStrike">
                <a:solidFill>
                  <a:srgbClr val="70215f"/>
                </a:solidFill>
                <a:latin typeface="Open Sans"/>
                <a:ea typeface="Open Sans"/>
              </a:rPr>
              <a:t>Amploare: nationala</a:t>
            </a:r>
            <a:r>
              <a:rPr b="1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 </a:t>
            </a:r>
            <a:r>
              <a:rPr b="0" lang="ro-RO" sz="1600" spc="-1" strike="noStrike">
                <a:solidFill>
                  <a:srgbClr val="323232"/>
                </a:solidFill>
                <a:latin typeface="Open Sans"/>
                <a:ea typeface="Open Sans"/>
              </a:rPr>
              <a:t>(participanti din </a:t>
            </a:r>
            <a:r>
              <a:rPr b="1" lang="ro-RO" sz="1600" spc="-1" strike="noStrike">
                <a:solidFill>
                  <a:srgbClr val="5d6967"/>
                </a:solidFill>
                <a:latin typeface="Open Sans"/>
                <a:ea typeface="Open Sans"/>
              </a:rPr>
              <a:t>peste 350 de localita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2"/>
          <a:stretch/>
        </p:blipFill>
        <p:spPr>
          <a:xfrm>
            <a:off x="3962520" y="2039760"/>
            <a:ext cx="4952880" cy="43610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Logo Asociatia SS pentru Educatie_220.jpg"/>
          <p:cNvPicPr/>
          <p:nvPr/>
        </p:nvPicPr>
        <p:blipFill>
          <a:blip r:embed="rId3"/>
          <a:stretch/>
        </p:blipFill>
        <p:spPr>
          <a:xfrm>
            <a:off x="6718320" y="214200"/>
            <a:ext cx="2068560" cy="10717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6" descr="Banner Orizontal Essay_Logo Asociatie_lowQ.png"/>
          <p:cNvPicPr/>
          <p:nvPr/>
        </p:nvPicPr>
        <p:blipFill>
          <a:blip r:embed="rId4"/>
          <a:stretch/>
        </p:blipFill>
        <p:spPr>
          <a:xfrm>
            <a:off x="357120" y="857160"/>
            <a:ext cx="3889440" cy="1214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30492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o-RO" sz="4200" spc="-1" strike="noStrike">
                <a:solidFill>
                  <a:srgbClr val="70215f"/>
                </a:solidFill>
                <a:latin typeface="Open Sans"/>
                <a:ea typeface="Open Sans"/>
              </a:rPr>
              <a:t>Parteneri 2013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Logo Asociatia SS pentru Educatie_220.jpg"/>
          <p:cNvPicPr/>
          <p:nvPr/>
        </p:nvPicPr>
        <p:blipFill>
          <a:blip r:embed="rId2"/>
          <a:stretch/>
        </p:blipFill>
        <p:spPr>
          <a:xfrm>
            <a:off x="6789600" y="142920"/>
            <a:ext cx="2068560" cy="1071360"/>
          </a:xfrm>
          <a:prstGeom prst="rect">
            <a:avLst/>
          </a:prstGeom>
          <a:ln w="0">
            <a:noFill/>
          </a:ln>
        </p:spPr>
      </p:pic>
      <p:grpSp>
        <p:nvGrpSpPr>
          <p:cNvPr id="590" name="TextBox 5"/>
          <p:cNvGrpSpPr/>
          <p:nvPr/>
        </p:nvGrpSpPr>
        <p:grpSpPr>
          <a:xfrm>
            <a:off x="208080" y="1066680"/>
            <a:ext cx="6583320" cy="365400"/>
            <a:chOff x="208080" y="1066680"/>
            <a:chExt cx="6583320" cy="365400"/>
          </a:xfrm>
        </p:grpSpPr>
        <p:pic>
          <p:nvPicPr>
            <p:cNvPr id="591" name="TextBox 5" descr=""/>
            <p:cNvPicPr/>
            <p:nvPr/>
          </p:nvPicPr>
          <p:blipFill>
            <a:blip r:embed="rId3"/>
            <a:stretch/>
          </p:blipFill>
          <p:spPr>
            <a:xfrm>
              <a:off x="208080" y="1066680"/>
              <a:ext cx="658332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214200" y="1071720"/>
              <a:ext cx="6572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Educationali &amp; Sponsori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3" name="Picture 6" descr="harrow.jpg"/>
          <p:cNvPicPr/>
          <p:nvPr/>
        </p:nvPicPr>
        <p:blipFill>
          <a:blip r:embed="rId4"/>
          <a:stretch/>
        </p:blipFill>
        <p:spPr>
          <a:xfrm>
            <a:off x="357120" y="1571760"/>
            <a:ext cx="1343160" cy="1357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8" descr="british council_2.jpg"/>
          <p:cNvPicPr/>
          <p:nvPr/>
        </p:nvPicPr>
        <p:blipFill>
          <a:blip r:embed="rId5"/>
          <a:stretch/>
        </p:blipFill>
        <p:spPr>
          <a:xfrm>
            <a:off x="1657440" y="1571760"/>
            <a:ext cx="1842840" cy="8650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fischer.jpg"/>
          <p:cNvPicPr/>
          <p:nvPr/>
        </p:nvPicPr>
        <p:blipFill>
          <a:blip r:embed="rId6"/>
          <a:stretch/>
        </p:blipFill>
        <p:spPr>
          <a:xfrm>
            <a:off x="3500280" y="1643040"/>
            <a:ext cx="1738440" cy="7142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carturesti.jpg"/>
          <p:cNvPicPr/>
          <p:nvPr/>
        </p:nvPicPr>
        <p:blipFill>
          <a:blip r:embed="rId7"/>
          <a:stretch/>
        </p:blipFill>
        <p:spPr>
          <a:xfrm>
            <a:off x="5416560" y="1500120"/>
            <a:ext cx="1512720" cy="8571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1" descr="editura humanitas.png"/>
          <p:cNvPicPr/>
          <p:nvPr/>
        </p:nvPicPr>
        <p:blipFill>
          <a:blip r:embed="rId8"/>
          <a:stretch/>
        </p:blipFill>
        <p:spPr>
          <a:xfrm>
            <a:off x="357120" y="3143160"/>
            <a:ext cx="2143080" cy="3826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2" descr="fnapip_logo_smaller_200.png"/>
          <p:cNvPicPr/>
          <p:nvPr/>
        </p:nvPicPr>
        <p:blipFill>
          <a:blip r:embed="rId9"/>
          <a:stretch/>
        </p:blipFill>
        <p:spPr>
          <a:xfrm>
            <a:off x="5929200" y="2571840"/>
            <a:ext cx="1198800" cy="1103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3" descr="simaco.jpg"/>
          <p:cNvPicPr/>
          <p:nvPr/>
        </p:nvPicPr>
        <p:blipFill>
          <a:blip r:embed="rId10"/>
          <a:stretch/>
        </p:blipFill>
        <p:spPr>
          <a:xfrm>
            <a:off x="4071960" y="2852640"/>
            <a:ext cx="171432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0" name="TextBox 14"/>
          <p:cNvGrpSpPr/>
          <p:nvPr/>
        </p:nvGrpSpPr>
        <p:grpSpPr>
          <a:xfrm>
            <a:off x="281160" y="3786120"/>
            <a:ext cx="6583320" cy="365040"/>
            <a:chOff x="281160" y="3786120"/>
            <a:chExt cx="6583320" cy="365040"/>
          </a:xfrm>
        </p:grpSpPr>
        <p:pic>
          <p:nvPicPr>
            <p:cNvPr id="601" name="TextBox 14" descr=""/>
            <p:cNvPicPr/>
            <p:nvPr/>
          </p:nvPicPr>
          <p:blipFill>
            <a:blip r:embed="rId11"/>
            <a:stretch/>
          </p:blipFill>
          <p:spPr>
            <a:xfrm>
              <a:off x="281160" y="3786120"/>
              <a:ext cx="658332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285840" y="3789360"/>
              <a:ext cx="6572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o-RO" sz="1700" spc="-1" strike="noStrike">
                  <a:solidFill>
                    <a:srgbClr val="70215f"/>
                  </a:solidFill>
                  <a:latin typeface="Open Sans"/>
                  <a:ea typeface="Open Sans"/>
                </a:rPr>
                <a:t>Parteneri Media Essay Competition 201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3" name="Picture 15" descr="Logo Learning About.png"/>
          <p:cNvPicPr/>
          <p:nvPr/>
        </p:nvPicPr>
        <p:blipFill>
          <a:blip r:embed="rId12"/>
          <a:stretch/>
        </p:blipFill>
        <p:spPr>
          <a:xfrm>
            <a:off x="7286760" y="2786040"/>
            <a:ext cx="1500120" cy="479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6" descr="Logo ISMB.png"/>
          <p:cNvPicPr/>
          <p:nvPr/>
        </p:nvPicPr>
        <p:blipFill>
          <a:blip r:embed="rId13"/>
          <a:stretch/>
        </p:blipFill>
        <p:spPr>
          <a:xfrm>
            <a:off x="7000920" y="1523880"/>
            <a:ext cx="1571760" cy="11192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5" descr="Logo KissFM lowQ.png"/>
          <p:cNvPicPr/>
          <p:nvPr/>
        </p:nvPicPr>
        <p:blipFill>
          <a:blip r:embed="rId14"/>
          <a:stretch/>
        </p:blipFill>
        <p:spPr>
          <a:xfrm>
            <a:off x="357120" y="4357800"/>
            <a:ext cx="870120" cy="7142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logo Digi24.png"/>
          <p:cNvPicPr/>
          <p:nvPr/>
        </p:nvPicPr>
        <p:blipFill>
          <a:blip r:embed="rId15"/>
          <a:stretch/>
        </p:blipFill>
        <p:spPr>
          <a:xfrm>
            <a:off x="1428840" y="4286160"/>
            <a:ext cx="85716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7" descr="Logo ItsyBitsy.png"/>
          <p:cNvPicPr/>
          <p:nvPr/>
        </p:nvPicPr>
        <p:blipFill>
          <a:blip r:embed="rId16"/>
          <a:stretch/>
        </p:blipFill>
        <p:spPr>
          <a:xfrm>
            <a:off x="2357280" y="4286160"/>
            <a:ext cx="1571760" cy="7239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8" descr="Adevărul-logo.jpg"/>
          <p:cNvPicPr/>
          <p:nvPr/>
        </p:nvPicPr>
        <p:blipFill>
          <a:blip r:embed="rId17"/>
          <a:stretch/>
        </p:blipFill>
        <p:spPr>
          <a:xfrm>
            <a:off x="4071960" y="4500720"/>
            <a:ext cx="1608120" cy="428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9" descr="Logo Bravo_png.png"/>
          <p:cNvPicPr/>
          <p:nvPr/>
        </p:nvPicPr>
        <p:blipFill>
          <a:blip r:embed="rId18"/>
          <a:stretch/>
        </p:blipFill>
        <p:spPr>
          <a:xfrm>
            <a:off x="5715000" y="4484520"/>
            <a:ext cx="1643040" cy="47484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21" descr="LOGO RRC ALB MARE_220px.jpg"/>
          <p:cNvPicPr/>
          <p:nvPr/>
        </p:nvPicPr>
        <p:blipFill>
          <a:blip r:embed="rId19"/>
          <a:stretch/>
        </p:blipFill>
        <p:spPr>
          <a:xfrm>
            <a:off x="311040" y="5286240"/>
            <a:ext cx="1332000" cy="7146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2" descr="logo-romaniapozitia 2010.jpg"/>
          <p:cNvPicPr/>
          <p:nvPr/>
        </p:nvPicPr>
        <p:blipFill>
          <a:blip r:embed="rId20"/>
          <a:stretch/>
        </p:blipFill>
        <p:spPr>
          <a:xfrm>
            <a:off x="1643040" y="5316480"/>
            <a:ext cx="1500120" cy="6127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3" descr="sigla-mediafax_220.jpg"/>
          <p:cNvPicPr/>
          <p:nvPr/>
        </p:nvPicPr>
        <p:blipFill>
          <a:blip r:embed="rId21"/>
          <a:stretch/>
        </p:blipFill>
        <p:spPr>
          <a:xfrm>
            <a:off x="3214800" y="5357880"/>
            <a:ext cx="1571400" cy="4284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4" descr="logo.png.png"/>
          <p:cNvPicPr/>
          <p:nvPr/>
        </p:nvPicPr>
        <p:blipFill>
          <a:blip r:embed="rId22"/>
          <a:stretch/>
        </p:blipFill>
        <p:spPr>
          <a:xfrm>
            <a:off x="4929120" y="5357880"/>
            <a:ext cx="1643040" cy="3934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5" descr="teen press.png"/>
          <p:cNvPicPr/>
          <p:nvPr/>
        </p:nvPicPr>
        <p:blipFill>
          <a:blip r:embed="rId23"/>
          <a:stretch/>
        </p:blipFill>
        <p:spPr>
          <a:xfrm>
            <a:off x="6715080" y="5214960"/>
            <a:ext cx="1143000" cy="552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7" descr="calificativ.png"/>
          <p:cNvPicPr/>
          <p:nvPr/>
        </p:nvPicPr>
        <p:blipFill>
          <a:blip r:embed="rId24"/>
          <a:stretch/>
        </p:blipFill>
        <p:spPr>
          <a:xfrm>
            <a:off x="2428920" y="6072120"/>
            <a:ext cx="1515960" cy="2858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8" descr="Logo AmDoar18Ani_lowQ.png"/>
          <p:cNvPicPr/>
          <p:nvPr/>
        </p:nvPicPr>
        <p:blipFill>
          <a:blip r:embed="rId25"/>
          <a:stretch/>
        </p:blipFill>
        <p:spPr>
          <a:xfrm>
            <a:off x="428760" y="6215040"/>
            <a:ext cx="1785960" cy="3286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0" descr="Logo Mamica Urbana.png"/>
          <p:cNvPicPr/>
          <p:nvPr/>
        </p:nvPicPr>
        <p:blipFill>
          <a:blip r:embed="rId26"/>
          <a:stretch/>
        </p:blipFill>
        <p:spPr>
          <a:xfrm>
            <a:off x="4143240" y="5929200"/>
            <a:ext cx="857520" cy="8114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31" descr="Logo_Copilul_small.jpg"/>
          <p:cNvPicPr/>
          <p:nvPr/>
        </p:nvPicPr>
        <p:blipFill>
          <a:blip r:embed="rId27"/>
          <a:stretch/>
        </p:blipFill>
        <p:spPr>
          <a:xfrm>
            <a:off x="5072040" y="5929200"/>
            <a:ext cx="1182600" cy="6987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2" descr="Logo 7Seri_lowQ.png"/>
          <p:cNvPicPr/>
          <p:nvPr/>
        </p:nvPicPr>
        <p:blipFill>
          <a:blip r:embed="rId28"/>
          <a:stretch/>
        </p:blipFill>
        <p:spPr>
          <a:xfrm>
            <a:off x="6286680" y="6215040"/>
            <a:ext cx="1500120" cy="214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3" descr="logo PRwave pe alb_220.tif"/>
          <p:cNvPicPr/>
          <p:nvPr/>
        </p:nvPicPr>
        <p:blipFill>
          <a:blip r:embed="rId29"/>
          <a:stretch/>
        </p:blipFill>
        <p:spPr>
          <a:xfrm>
            <a:off x="7448400" y="4572000"/>
            <a:ext cx="1266840" cy="357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5" descr="logo_young initiative_150.jpg"/>
          <p:cNvPicPr/>
          <p:nvPr/>
        </p:nvPicPr>
        <p:blipFill>
          <a:blip r:embed="rId30"/>
          <a:stretch/>
        </p:blipFill>
        <p:spPr>
          <a:xfrm>
            <a:off x="7929720" y="5143680"/>
            <a:ext cx="974520" cy="642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6" descr="Logo_Bucharest-Nightlife_small.jpg"/>
          <p:cNvPicPr/>
          <p:nvPr/>
        </p:nvPicPr>
        <p:blipFill>
          <a:blip r:embed="rId31"/>
          <a:stretch/>
        </p:blipFill>
        <p:spPr>
          <a:xfrm>
            <a:off x="2571840" y="6429240"/>
            <a:ext cx="1230120" cy="2714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8" descr="Logo Blogul Mamei Incepatoare_lowQ.png"/>
          <p:cNvPicPr/>
          <p:nvPr/>
        </p:nvPicPr>
        <p:blipFill>
          <a:blip r:embed="rId32"/>
          <a:stretch/>
        </p:blipFill>
        <p:spPr>
          <a:xfrm>
            <a:off x="7929720" y="5919840"/>
            <a:ext cx="857160" cy="587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3" descr="logo Transylvania College.png"/>
          <p:cNvPicPr/>
          <p:nvPr/>
        </p:nvPicPr>
        <p:blipFill>
          <a:blip r:embed="rId33"/>
          <a:stretch/>
        </p:blipFill>
        <p:spPr>
          <a:xfrm>
            <a:off x="2714760" y="2571840"/>
            <a:ext cx="1071360" cy="10461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08:09:06Z</dcterms:created>
  <dc:creator>Shakespeare</dc:creator>
  <dc:description/>
  <dc:language>en-US</dc:language>
  <cp:lastModifiedBy>Shakespeare</cp:lastModifiedBy>
  <dcterms:modified xsi:type="dcterms:W3CDTF">2013-02-04T14:48:13Z</dcterms:modified>
  <cp:revision>89</cp:revision>
  <dc:subject/>
  <dc:title>Totul despre examenele Trinity si Cambrid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24811033</vt:lpwstr>
  </property>
</Properties>
</file>